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33.wmf" ContentType="image/x-wmf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8.wmf" ContentType="image/x-wmf"/>
  <Override PartName="/ppt/media/image40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53.png" ContentType="image/png"/>
  <Override PartName="/ppt/media/image6.wmf" ContentType="image/x-wmf"/>
  <Override PartName="/ppt/media/image36.wmf" ContentType="image/x-wmf"/>
  <Override PartName="/ppt/media/image30.png" ContentType="image/png"/>
  <Override PartName="/ppt/media/image9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5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2C381-9A0D-4123-9925-BC052E14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9CEF7-924C-4F7E-90DB-4DB3F3F6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51664-DC2F-4951-BEAB-F76FA9B13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775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62360"/>
            <a:ext cx="264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6E10-5680-4A00-BCB2-3C4496B9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CE279-C610-454A-B6CB-E70874F9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1A135-35FC-4350-96A2-AD15802E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F75AC-C633-41E3-B710-B8BD3E1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2E70-396B-4A03-97BD-E6FDA9E9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77840"/>
            <a:ext cx="82296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C3FD-B6E9-46BB-84FC-4C10778F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F8A8-0E1A-43FC-8DB9-662C02C2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623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0271-FFF5-41D5-AE4D-58DBDC0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77560"/>
            <a:ext cx="40158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62360"/>
            <a:ext cx="8229600" cy="23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27EF-9888-485C-B58C-7A1DBC51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2800" y="177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67A6-7AC2-49BE-A580-AD4F074E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87400" y="6400440"/>
            <a:ext cx="5546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4FC4-8D07-49FB-BB18-4326228CA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1"/>
          <a:stretch/>
        </p:blipFill>
        <p:spPr>
          <a:xfrm>
            <a:off x="2001960" y="230040"/>
            <a:ext cx="5175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FF7C-C7B4-480E-B1BD-27D1201F0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Cusum Status Chart (Figure 9.3a)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1"/>
          <a:srcRect l="0" t="0" r="0" b="5844"/>
          <a:stretch/>
        </p:blipFill>
        <p:spPr>
          <a:xfrm>
            <a:off x="952560" y="1162080"/>
            <a:ext cx="723888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1B12-6D72-4BBE-8856-EB7B6D3E0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MINITAB Version of Cusum Status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4" name="Picture 12" descr=""/>
          <p:cNvPicPr/>
          <p:nvPr/>
        </p:nvPicPr>
        <p:blipFill>
          <a:blip r:embed="rId1"/>
          <a:stretch/>
        </p:blipFill>
        <p:spPr>
          <a:xfrm>
            <a:off x="731880" y="5622840"/>
            <a:ext cx="3092400" cy="452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4"/>
          <p:cNvSpPr/>
          <p:nvPr/>
        </p:nvSpPr>
        <p:spPr>
          <a:xfrm>
            <a:off x="3773520" y="5653080"/>
            <a:ext cx="41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itab calculates the lower Cusum this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H="1">
            <a:off x="3614760" y="5788080"/>
            <a:ext cx="3952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2"/>
          <a:stretch/>
        </p:blipFill>
        <p:spPr>
          <a:xfrm>
            <a:off x="1090440" y="1733400"/>
            <a:ext cx="696312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CBB8-69AB-4B23-94B0-A6D1266AF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028880" y="1362240"/>
            <a:ext cx="708660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03DD-50D3-4DB9-A121-7DC4C0296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Recommendations for Cusum Desig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087560" y="1246320"/>
            <a:ext cx="749304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BBB8-BAC5-40C9-B8C1-B083CF9A7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09680" y="482760"/>
            <a:ext cx="82627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AFF8-4FA4-4A3A-860B-3C1073BFC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Standardized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790560" y="1255680"/>
            <a:ext cx="78818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6317-BB6D-499A-95F4-8186B4E40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440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Improving Cusum Performance for Large Shifts: The Combined Shewhart-Cusum Schem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938160" y="1504800"/>
            <a:ext cx="726768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164E-10D8-41F3-B535-A12AF8B48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The Fast Initial Response (FIR) Cusum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950000" y="4815000"/>
            <a:ext cx="3271680" cy="14922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33240" y="5132520"/>
            <a:ext cx="39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2, headstart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2"/>
          <a:stretch/>
        </p:blipFill>
        <p:spPr>
          <a:xfrm>
            <a:off x="976320" y="870120"/>
            <a:ext cx="746748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1F11-126D-4BD4-B795-7BE058FF1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755720" y="4727520"/>
            <a:ext cx="61246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2 implies that the cusum signals at s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the headstart, it would not signal until sam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938160" y="507960"/>
            <a:ext cx="726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C4AA-91D8-4F5F-89FE-00EA88F39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1166760" y="646200"/>
            <a:ext cx="71182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16B0-5139-485C-8941-D83319FD5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2F82-E2B5-4890-8156-7CACECF08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More on Cusums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often used to determine if a process has shifted off a specified target because it is easy to calculate the required adju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sided cusums are often us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can also be used to monitor var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ums are available for other sample statistics (ranges, standard deviations, counts, proportion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nal subgroups and cus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A3D5-E5BA-45DC-9091-1F89B2192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4076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3962520" y="4495680"/>
            <a:ext cx="426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EEF6-2C46-462F-AE8E-216366738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sum V-Mask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51" name="Picture 11" descr=""/>
          <p:cNvPicPr/>
          <p:nvPr/>
        </p:nvPicPr>
        <p:blipFill>
          <a:blip r:embed="rId1"/>
          <a:stretch/>
        </p:blipFill>
        <p:spPr>
          <a:xfrm>
            <a:off x="2743200" y="1076400"/>
            <a:ext cx="3657600" cy="261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"/>
          <p:cNvPicPr/>
          <p:nvPr/>
        </p:nvPicPr>
        <p:blipFill>
          <a:blip r:embed="rId2"/>
          <a:stretch/>
        </p:blipFill>
        <p:spPr>
          <a:xfrm>
            <a:off x="852480" y="4140360"/>
            <a:ext cx="743904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DDD0-A4D6-4F96-B921-D510651AA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"/>
          <p:cNvPicPr/>
          <p:nvPr/>
        </p:nvPicPr>
        <p:blipFill>
          <a:blip r:embed="rId1"/>
          <a:stretch/>
        </p:blipFill>
        <p:spPr>
          <a:xfrm>
            <a:off x="434880" y="709560"/>
            <a:ext cx="8507520" cy="2414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"/>
          <p:cNvPicPr/>
          <p:nvPr/>
        </p:nvPicPr>
        <p:blipFill>
          <a:blip r:embed="rId2"/>
          <a:stretch/>
        </p:blipFill>
        <p:spPr>
          <a:xfrm>
            <a:off x="1384200" y="3335400"/>
            <a:ext cx="6418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CF31-B5DD-44B5-AEA5-14FCF3C40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857160" y="1143000"/>
            <a:ext cx="74296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9040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A76A-C981-42B2-B5C9-ED189D08B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1617840" y="249120"/>
            <a:ext cx="60213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01E0-B414-4B15-AC7B-5E25A228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442800" y="603360"/>
            <a:ext cx="82440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B049-5845-4EA5-A402-45225A839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757080" y="836640"/>
            <a:ext cx="796608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8E1C-3DEC-4BB4-89CA-68E66068D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78000" y="30960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2 The Exponentially Weighted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596880" y="1924200"/>
            <a:ext cx="21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WMA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6" descr=""/>
          <p:cNvPicPr/>
          <p:nvPr/>
        </p:nvPicPr>
        <p:blipFill>
          <a:blip r:embed="rId1"/>
          <a:stretch/>
        </p:blipFill>
        <p:spPr>
          <a:xfrm>
            <a:off x="933480" y="2390760"/>
            <a:ext cx="72770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D0B-E613-4D37-99BE-B8DE22F98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1"/>
          <a:stretch/>
        </p:blipFill>
        <p:spPr>
          <a:xfrm>
            <a:off x="2271600" y="473040"/>
            <a:ext cx="4038840" cy="85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"/>
          <p:cNvPicPr/>
          <p:nvPr/>
        </p:nvPicPr>
        <p:blipFill>
          <a:blip r:embed="rId2"/>
          <a:stretch/>
        </p:blipFill>
        <p:spPr>
          <a:xfrm>
            <a:off x="1671480" y="1627200"/>
            <a:ext cx="5677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692-C917-43CF-83E7-CDAB08521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800" y="2361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8.1 The Cumulative Sum Control Chart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343080" y="882720"/>
            <a:ext cx="4263840" cy="5537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2"/>
          <a:stretch/>
        </p:blipFill>
        <p:spPr>
          <a:xfrm>
            <a:off x="4606920" y="169236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C51C-5E8F-482B-9087-0EEAF915A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2940120" y="179280"/>
            <a:ext cx="32353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2"/>
          <a:stretch/>
        </p:blipFill>
        <p:spPr>
          <a:xfrm>
            <a:off x="822240" y="4311720"/>
            <a:ext cx="4942080" cy="161928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13"/>
          <p:cNvSpPr/>
          <p:nvPr/>
        </p:nvSpPr>
        <p:spPr>
          <a:xfrm>
            <a:off x="5759280" y="4270320"/>
            <a:ext cx="324000" cy="1703520"/>
          </a:xfrm>
          <a:custGeom>
            <a:avLst/>
            <a:gdLst>
              <a:gd name="textAreaLeft" fmla="*/ 0 w 324000"/>
              <a:gd name="textAreaRight" fmla="*/ 117000 w 324000"/>
              <a:gd name="textAreaTop" fmla="*/ 44280 h 1703520"/>
              <a:gd name="textAreaBottom" fmla="*/ 1659240 h 17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6270480" y="48211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control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"/>
          <p:cNvPicPr/>
          <p:nvPr/>
        </p:nvPicPr>
        <p:blipFill>
          <a:blip r:embed="rId3"/>
          <a:stretch/>
        </p:blipFill>
        <p:spPr>
          <a:xfrm>
            <a:off x="882720" y="1182600"/>
            <a:ext cx="74102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C769-7F2C-4BA3-9CEC-AD28A21B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"/>
          <a:stretch/>
        </p:blipFill>
        <p:spPr>
          <a:xfrm>
            <a:off x="582480" y="295200"/>
            <a:ext cx="818532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0FD7-45F5-44FD-A606-D023F7095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"/>
          <p:cNvPicPr/>
          <p:nvPr/>
        </p:nvPicPr>
        <p:blipFill>
          <a:blip r:embed="rId1"/>
          <a:stretch/>
        </p:blipFill>
        <p:spPr>
          <a:xfrm>
            <a:off x="314280" y="1571760"/>
            <a:ext cx="8515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5C9A-B2C1-4D2A-A83B-C9B6FF185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828720" y="501480"/>
            <a:ext cx="7040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0C48-F380-4A00-BCA1-EAFDE2155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Design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1422360" y="1325520"/>
            <a:ext cx="65628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C745-67D4-4A28-B992-4483B789C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611280" y="941400"/>
            <a:ext cx="7751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9C6E-68B5-4C9A-A7A1-1EECD0F0D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442800" y="773280"/>
            <a:ext cx="8244000" cy="47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9641-342C-42E6-ACD4-DA84B0A8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3600" y="134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Robustness of EWMA to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Non-normal Process Data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22" name="Picture 7" descr=""/>
          <p:cNvPicPr/>
          <p:nvPr/>
        </p:nvPicPr>
        <p:blipFill>
          <a:blip r:embed="rId1"/>
          <a:stretch/>
        </p:blipFill>
        <p:spPr>
          <a:xfrm>
            <a:off x="1481040" y="1560600"/>
            <a:ext cx="637236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7CD3-082C-4F65-A428-066BCB62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341360" y="960480"/>
            <a:ext cx="6383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C558-67EE-4E54-8CD8-FA8CA40E4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504720" y="1523880"/>
            <a:ext cx="81345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88F6-0CD7-45C4-ABD3-AFFB1F9E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1"/>
          <a:stretch/>
        </p:blipFill>
        <p:spPr>
          <a:xfrm>
            <a:off x="149400" y="969840"/>
            <a:ext cx="873576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E9D4-4818-4C29-9824-DF08B3E4D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Extensions of the EWMA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77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initial response fe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var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coun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WMA as a predictor of process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84C0-2D6C-47E5-9DFB-481900E7E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267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imes New Roman"/>
              </a:rPr>
              <a:t>9.3 The Moving Average Control Chart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1"/>
          <a:stretch/>
        </p:blipFill>
        <p:spPr>
          <a:xfrm>
            <a:off x="766800" y="1192320"/>
            <a:ext cx="760248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4A2A-9634-43E0-A25A-EB318656C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1"/>
          <a:stretch/>
        </p:blipFill>
        <p:spPr>
          <a:xfrm>
            <a:off x="378000" y="353880"/>
            <a:ext cx="8578800" cy="2417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2"/>
          <a:stretch/>
        </p:blipFill>
        <p:spPr>
          <a:xfrm>
            <a:off x="1593720" y="2771640"/>
            <a:ext cx="530712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06A8-B8A4-4F87-999E-7FDC11B28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80438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A2F1-B3D8-4A47-9C88-DE8E748EE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282600" y="871560"/>
            <a:ext cx="864396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4B57-4868-45B5-BBF9-E75CE4AE8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5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78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Times New Roman"/>
              </a:rPr>
              <a:t>Learning Objective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457200" y="1984320"/>
            <a:ext cx="82296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28B-93E1-42EA-8531-D87A99C9A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Cumulative Sum Control Chart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64" name="Picture 9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03848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343080" y="1197000"/>
            <a:ext cx="42289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45B4-474E-4DDA-B9DC-B9B1BB78F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2059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The Tabular Cusum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1"/>
          <a:stretch/>
        </p:blipFill>
        <p:spPr>
          <a:xfrm>
            <a:off x="1014480" y="1438200"/>
            <a:ext cx="7115040" cy="1990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446120" y="4280040"/>
            <a:ext cx="64515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4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411D-2C41-4DEB-8559-8533A910C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6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6040" y="119160"/>
            <a:ext cx="8339400" cy="238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rcRect l="0" t="0" r="7461" b="0"/>
          <a:stretch/>
        </p:blipFill>
        <p:spPr>
          <a:xfrm>
            <a:off x="384120" y="2502000"/>
            <a:ext cx="744876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536C-1C3D-418F-A13E-253FE778B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1"/>
          <a:stretch/>
        </p:blipFill>
        <p:spPr>
          <a:xfrm>
            <a:off x="331920" y="938160"/>
            <a:ext cx="79801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5720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400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75B-3E57-4BDD-AE4C-ADA6D6D32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1787400" y="6400800"/>
            <a:ext cx="5546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troduction to Statistical Quality Control, 7th Edition by Douglas C. Montgomery. Copyright (c) 2012  John Wiley &amp; Sons,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98640" y="573120"/>
            <a:ext cx="5305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9T17:36:23Z</dcterms:created>
  <dc:creator>Cheryl Jennings</dc:creator>
  <dc:description/>
  <dc:language>en-US</dc:language>
  <cp:lastModifiedBy>Thomas Kuczek</cp:lastModifiedBy>
  <dcterms:modified xsi:type="dcterms:W3CDTF">2016-03-01T20:09:25Z</dcterms:modified>
  <cp:revision>20</cp:revision>
  <dc:subject/>
  <dc:title>Introduction to Statistical Quality Control, 5th edition</dc:title>
</cp:coreProperties>
</file>