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33.wmf" ContentType="image/x-wmf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38.wmf" ContentType="image/x-wmf"/>
  <Override PartName="/ppt/media/image40.png" ContentType="image/png"/>
  <Override PartName="/ppt/media/image52.png" ContentType="image/png"/>
  <Override PartName="/ppt/media/image39.wmf" ContentType="image/x-wmf"/>
  <Override PartName="/ppt/media/image41.png" ContentType="image/png"/>
  <Override PartName="/ppt/media/image53.png" ContentType="image/png"/>
  <Override PartName="/ppt/media/image6.wmf" ContentType="image/x-wmf"/>
  <Override PartName="/ppt/media/image36.wmf" ContentType="image/x-wmf"/>
  <Override PartName="/ppt/media/image30.png" ContentType="image/png"/>
  <Override PartName="/ppt/media/image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EF4E9-5D6C-41F4-8F70-E2500877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4FD6D-6F3F-4FD2-A28E-3309656A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640F7-A81D-4938-A858-A0C392D3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56A9D-0EA6-43B8-89E9-65D507D7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A4843-43EE-4560-9C52-509158E3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E13F3-D13B-4160-8168-CD069E41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527A5-5E5B-4BBA-B3DC-E667DA7A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40782-2937-4A78-8FC8-7FF95516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77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06AF7-A0AF-45EA-84A3-5FAA7667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AC621-7395-4D51-B872-A9AD1F9D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A71C5-52B3-48B3-B026-431BBCC0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B6F0E-2D6E-4D19-9B12-C7AB8BD6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8D19-CADF-4B6F-9025-CAE78228E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787400" y="6400440"/>
            <a:ext cx="5546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1C6F-800B-4667-A766-19F4AAFA3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2001960" y="230040"/>
            <a:ext cx="517500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3BFD-3BAF-4C9E-AC54-8F8E13E3A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Cusum Status Chart (Figure 9.3a)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rcRect l="0" t="0" r="0" b="5844"/>
          <a:stretch/>
        </p:blipFill>
        <p:spPr>
          <a:xfrm>
            <a:off x="952560" y="1162080"/>
            <a:ext cx="72388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5E2C-C4E3-4C92-9317-43AAEF072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MINITAB Version of Cusum Status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1"/>
          <a:stretch/>
        </p:blipFill>
        <p:spPr>
          <a:xfrm>
            <a:off x="731880" y="5622840"/>
            <a:ext cx="3092400" cy="452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4"/>
          <p:cNvSpPr/>
          <p:nvPr/>
        </p:nvSpPr>
        <p:spPr>
          <a:xfrm>
            <a:off x="3773520" y="5653080"/>
            <a:ext cx="41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tab calculates the lower Cusum this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 flipH="1">
            <a:off x="3614760" y="5788080"/>
            <a:ext cx="39528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"/>
          <p:cNvPicPr/>
          <p:nvPr/>
        </p:nvPicPr>
        <p:blipFill>
          <a:blip r:embed="rId2"/>
          <a:stretch/>
        </p:blipFill>
        <p:spPr>
          <a:xfrm>
            <a:off x="1090440" y="1733400"/>
            <a:ext cx="69631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31B5-753A-4D20-B7CD-F5D9B844C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028880" y="1362240"/>
            <a:ext cx="708660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60CC-0B1B-4101-851D-C8227A3C6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Recommendations for Cusum Desig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087560" y="1246320"/>
            <a:ext cx="74930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91F9-47E6-451C-9BA6-D39D14B2A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09680" y="482760"/>
            <a:ext cx="82627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D7D2-3F4F-4722-8750-F46E717ED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Standardized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790560" y="1255680"/>
            <a:ext cx="788184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6381-5C3C-4D4A-9E8D-16229043B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440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Improving Cusum Performance for Large Shifts: The Combined Shewhart-Cusum Schem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938160" y="1504800"/>
            <a:ext cx="726768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01CD-C764-4228-A6CD-B1ED27A94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The Fast Initial Response (FIR) Cusum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1"/>
          <a:stretch/>
        </p:blipFill>
        <p:spPr>
          <a:xfrm>
            <a:off x="4950000" y="4815000"/>
            <a:ext cx="3271680" cy="14922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633240" y="5132520"/>
            <a:ext cx="39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2, headstart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2"/>
          <a:stretch/>
        </p:blipFill>
        <p:spPr>
          <a:xfrm>
            <a:off x="976320" y="870120"/>
            <a:ext cx="746748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323A-4D01-49B3-A417-97E1262C9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755720" y="4727520"/>
            <a:ext cx="6124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2 implies that the cusum signals at s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the headstart, it would not signal until sam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938160" y="507960"/>
            <a:ext cx="726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129E-B3F0-4C26-B2C9-76AD9E9E9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1166760" y="646200"/>
            <a:ext cx="71182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8704-9502-4984-A0AB-B3F5D3CE7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F3C0-BD7A-4EC6-BA77-0CD282DC5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More on Cusums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often used to determine if a process has shifted off a specified target because it is easy to calculate the required adju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-sided cusums are often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can also be used to monitor var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available for other sample statistics (ranges, standard deviations, counts, proportion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 subgroups and cus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149B-36E1-4830-9444-849D6B77E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4076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3962520" y="4495680"/>
            <a:ext cx="4267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FF1A-708B-42EF-8B1F-BB53DBAD0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sum V-Mask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1" name="Picture 11" descr=""/>
          <p:cNvPicPr/>
          <p:nvPr/>
        </p:nvPicPr>
        <p:blipFill>
          <a:blip r:embed="rId1"/>
          <a:stretch/>
        </p:blipFill>
        <p:spPr>
          <a:xfrm>
            <a:off x="2743200" y="1076400"/>
            <a:ext cx="3657600" cy="2619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2"/>
          <a:stretch/>
        </p:blipFill>
        <p:spPr>
          <a:xfrm>
            <a:off x="852480" y="4140360"/>
            <a:ext cx="74390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88E0-7F09-4E30-8CC6-CCF3600E2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434880" y="709560"/>
            <a:ext cx="8507520" cy="2414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2"/>
          <a:stretch/>
        </p:blipFill>
        <p:spPr>
          <a:xfrm>
            <a:off x="1384200" y="3335400"/>
            <a:ext cx="641844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F599-61CC-49CB-92FE-B0BB2C610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857160" y="1143000"/>
            <a:ext cx="74296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904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5C68-4634-4869-88C2-807BE8096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617840" y="249120"/>
            <a:ext cx="602136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BA93-CF7A-42F4-B9C2-E45617492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42800" y="603360"/>
            <a:ext cx="824400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4B81-26A9-463C-86DC-478AB9CB7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757080" y="836640"/>
            <a:ext cx="796608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65F5-B0BB-4691-A800-DC6CC3B6B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78000" y="30960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2 The Exponentially Weighted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596880" y="1924200"/>
            <a:ext cx="214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WMA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6" descr=""/>
          <p:cNvPicPr/>
          <p:nvPr/>
        </p:nvPicPr>
        <p:blipFill>
          <a:blip r:embed="rId1"/>
          <a:stretch/>
        </p:blipFill>
        <p:spPr>
          <a:xfrm>
            <a:off x="933480" y="2390760"/>
            <a:ext cx="72770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971E-385B-4F05-9A6D-B127E585F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1"/>
          <a:stretch/>
        </p:blipFill>
        <p:spPr>
          <a:xfrm>
            <a:off x="2271600" y="473040"/>
            <a:ext cx="4038840" cy="854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2"/>
          <a:stretch/>
        </p:blipFill>
        <p:spPr>
          <a:xfrm>
            <a:off x="1671480" y="1627200"/>
            <a:ext cx="56772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DCE4-B0A5-4466-80D4-F18F0F495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8.1 The Cumulative Sum Control Chart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343080" y="882720"/>
            <a:ext cx="4263840" cy="553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"/>
          <p:cNvPicPr/>
          <p:nvPr/>
        </p:nvPicPr>
        <p:blipFill>
          <a:blip r:embed="rId2"/>
          <a:stretch/>
        </p:blipFill>
        <p:spPr>
          <a:xfrm>
            <a:off x="4606920" y="169236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B865-8889-4AFE-A858-CD005211B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tretch/>
        </p:blipFill>
        <p:spPr>
          <a:xfrm>
            <a:off x="2940120" y="179280"/>
            <a:ext cx="3235320" cy="762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"/>
          <p:cNvPicPr/>
          <p:nvPr/>
        </p:nvPicPr>
        <p:blipFill>
          <a:blip r:embed="rId2"/>
          <a:stretch/>
        </p:blipFill>
        <p:spPr>
          <a:xfrm>
            <a:off x="822240" y="4311720"/>
            <a:ext cx="4942080" cy="161928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13"/>
          <p:cNvSpPr/>
          <p:nvPr/>
        </p:nvSpPr>
        <p:spPr>
          <a:xfrm>
            <a:off x="5759280" y="4270320"/>
            <a:ext cx="324000" cy="1703520"/>
          </a:xfrm>
          <a:custGeom>
            <a:avLst/>
            <a:gdLst>
              <a:gd name="textAreaLeft" fmla="*/ 0 w 324000"/>
              <a:gd name="textAreaRight" fmla="*/ 117000 w 324000"/>
              <a:gd name="textAreaTop" fmla="*/ 44280 h 1703520"/>
              <a:gd name="textAreaBottom" fmla="*/ 1659240 h 170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270480" y="48211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-state control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5" descr=""/>
          <p:cNvPicPr/>
          <p:nvPr/>
        </p:nvPicPr>
        <p:blipFill>
          <a:blip r:embed="rId3"/>
          <a:stretch/>
        </p:blipFill>
        <p:spPr>
          <a:xfrm>
            <a:off x="882720" y="1182600"/>
            <a:ext cx="7410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BB29-3920-41D0-8ED0-37175CA9C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582480" y="295200"/>
            <a:ext cx="818532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4D42-F32A-405B-81D7-03B5C91CA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1"/>
          <a:stretch/>
        </p:blipFill>
        <p:spPr>
          <a:xfrm>
            <a:off x="314280" y="1571760"/>
            <a:ext cx="85154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C99E-0B3B-48B5-AA70-B7BC0E3AA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828720" y="501480"/>
            <a:ext cx="70405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810C-B839-4119-98D4-1201446BE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Design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1422360" y="1325520"/>
            <a:ext cx="65628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AFCF-0CFB-4C1D-A49C-0D89469AC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611280" y="941400"/>
            <a:ext cx="77515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4657-5EDE-4B25-AC2F-E45C23E91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42800" y="773280"/>
            <a:ext cx="8244000" cy="47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85BA-BE34-4B7D-9806-FF2F43B49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3600" y="134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Robustness of EWMA to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Non-normal Process Data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22" name="Picture 7" descr=""/>
          <p:cNvPicPr/>
          <p:nvPr/>
        </p:nvPicPr>
        <p:blipFill>
          <a:blip r:embed="rId1"/>
          <a:stretch/>
        </p:blipFill>
        <p:spPr>
          <a:xfrm>
            <a:off x="1481040" y="1560600"/>
            <a:ext cx="63723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4389-F494-4291-93DE-E7C559A92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1341360" y="960480"/>
            <a:ext cx="6383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2696-7021-41AA-8D33-C26799E5C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04720" y="1523880"/>
            <a:ext cx="81345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719E-ADA4-456D-ABAD-52665FAB9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1"/>
          <a:stretch/>
        </p:blipFill>
        <p:spPr>
          <a:xfrm>
            <a:off x="149400" y="969840"/>
            <a:ext cx="873576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1F71-7311-4951-9AB3-A0E4611A6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Extensions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initial response fe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var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cou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WMA as a predictor of process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2F40-EEB2-4F57-AEA4-03AFB2BA9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3 The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1"/>
          <a:stretch/>
        </p:blipFill>
        <p:spPr>
          <a:xfrm>
            <a:off x="766800" y="1192320"/>
            <a:ext cx="760248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21BE-7DC5-4B89-9DA5-93171BB33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378000" y="353880"/>
            <a:ext cx="8578800" cy="2417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1593720" y="2771640"/>
            <a:ext cx="53071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1ADF-F0FC-4617-8C59-986BA4AE2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80438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C6D1-5383-4FA2-A59F-B2355EDBA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282600" y="871560"/>
            <a:ext cx="86439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8D09-9776-42F7-864E-8F595F3B1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268D-9647-4F56-8BB0-D64875464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mulative Sum Control Chart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4648320" y="2579760"/>
            <a:ext cx="4038480" cy="21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343080" y="1197000"/>
            <a:ext cx="42289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DBA1-A2B5-46A7-B4A8-30029F9D2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Tabular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1"/>
          <a:stretch/>
        </p:blipFill>
        <p:spPr>
          <a:xfrm>
            <a:off x="1014480" y="1438200"/>
            <a:ext cx="7115040" cy="1990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446120" y="4280040"/>
            <a:ext cx="64515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98F6-B115-413F-8F1F-B10E4DA6C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176040" y="119160"/>
            <a:ext cx="8339400" cy="2382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2"/>
          <a:srcRect l="0" t="0" r="7461" b="0"/>
          <a:stretch/>
        </p:blipFill>
        <p:spPr>
          <a:xfrm>
            <a:off x="384120" y="2502000"/>
            <a:ext cx="744876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2200-3A16-48E7-8B52-2D8519668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1"/>
          <a:stretch/>
        </p:blipFill>
        <p:spPr>
          <a:xfrm>
            <a:off x="331920" y="938160"/>
            <a:ext cx="79801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9F64-FE68-47D9-BE95-2C91AE514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98640" y="573120"/>
            <a:ext cx="5305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7:36:23Z</dcterms:created>
  <dc:creator>Cheryl Jennings</dc:creator>
  <dc:description/>
  <dc:language>en-US</dc:language>
  <cp:lastModifiedBy>Thomas Kuczek</cp:lastModifiedBy>
  <dcterms:modified xsi:type="dcterms:W3CDTF">2016-03-01T20:09:25Z</dcterms:modified>
  <cp:revision>20</cp:revision>
  <dc:subject/>
  <dc:title>Introduction to Statistical Quality Control, 5th edition</dc:title>
</cp:coreProperties>
</file>