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3.png" ContentType="image/png"/>
  <Override PartName="/ppt/media/image22.wmf" ContentType="image/x-wmf"/>
  <Override PartName="/ppt/media/image19.png" ContentType="image/png"/>
  <Override PartName="/ppt/media/image2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33.wmf" ContentType="image/x-wmf"/>
  <Override PartName="/ppt/media/image11.png" ContentType="image/png"/>
  <Override PartName="/ppt/media/image48.png" ContentType="image/png"/>
  <Override PartName="/ppt/media/image13.png" ContentType="image/png"/>
  <Override PartName="/ppt/media/image51.png" ContentType="image/png"/>
  <Override PartName="/ppt/media/image38.wmf" ContentType="image/x-wmf"/>
  <Override PartName="/ppt/media/image40.png" ContentType="image/png"/>
  <Override PartName="/ppt/media/image52.png" ContentType="image/png"/>
  <Override PartName="/ppt/media/image39.wmf" ContentType="image/x-wmf"/>
  <Override PartName="/ppt/media/image41.png" ContentType="image/png"/>
  <Override PartName="/ppt/media/image53.png" ContentType="image/png"/>
  <Override PartName="/ppt/media/image6.wmf" ContentType="image/x-wmf"/>
  <Override PartName="/ppt/media/image36.wmf" ContentType="image/x-wmf"/>
  <Override PartName="/ppt/media/image30.png" ContentType="image/png"/>
  <Override PartName="/ppt/media/image9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15.wmf" ContentType="image/x-wmf"/>
  <Override PartName="/ppt/media/image5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46AD59-4A42-4BC1-A397-DE933958D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42800" y="177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177560"/>
            <a:ext cx="82296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762360"/>
            <a:ext cx="82296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A8C73D-B249-4B66-9C78-46EDF0EEC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42800" y="177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177560"/>
            <a:ext cx="40158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177560"/>
            <a:ext cx="40158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762360"/>
            <a:ext cx="40158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762360"/>
            <a:ext cx="40158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CCDB9A-61A2-4087-BB2E-846BD0E77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42800" y="177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77560"/>
            <a:ext cx="26496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177560"/>
            <a:ext cx="26496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177560"/>
            <a:ext cx="26496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762360"/>
            <a:ext cx="26496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762360"/>
            <a:ext cx="26496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762360"/>
            <a:ext cx="26496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E3958D-B907-44DC-A799-FEE735222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42800" y="177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177560"/>
            <a:ext cx="8229600" cy="494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8A7037-8E86-4395-8443-DD2F24E07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42800" y="177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177560"/>
            <a:ext cx="8229600" cy="494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04FB49-C8A4-4C47-AAC3-D40B79FE1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42800" y="177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177560"/>
            <a:ext cx="4015800" cy="494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177560"/>
            <a:ext cx="4015800" cy="494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1F8E62-37CC-482B-BF3C-8BDF76B50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42800" y="177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E5F8C4-926E-4020-B69D-B5D5C44CA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42800" y="177840"/>
            <a:ext cx="822960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B7D2E0-654A-40C2-A5EA-4B74BEC39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42800" y="177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77560"/>
            <a:ext cx="40158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77560"/>
            <a:ext cx="4015800" cy="494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762360"/>
            <a:ext cx="40158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FB4358-4646-4F7C-95B5-DC4CA9E35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42800" y="177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177560"/>
            <a:ext cx="4015800" cy="494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177560"/>
            <a:ext cx="40158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762360"/>
            <a:ext cx="40158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AA0A9D-48B4-4901-BAB7-17CA65B9C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42800" y="177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177560"/>
            <a:ext cx="40158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177560"/>
            <a:ext cx="40158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762360"/>
            <a:ext cx="82296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A8D9CB-E6E3-43BE-BEAD-7C9591132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42800" y="177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77560"/>
            <a:ext cx="8229600" cy="494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00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400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3CDD9-5749-4C7F-B79F-399A5D38BA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ftr" idx="3"/>
          </p:nvPr>
        </p:nvSpPr>
        <p:spPr>
          <a:xfrm>
            <a:off x="1787400" y="6400440"/>
            <a:ext cx="5546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39.wmf"/><Relationship Id="rId3" Type="http://schemas.openxmlformats.org/officeDocument/2006/relationships/image" Target="../media/image40.pn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pn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2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Slide Number Placeholder 3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96450-63AD-4C04-B792-5235F1FDFC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Footer Placeholder 4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9" descr=""/>
          <p:cNvPicPr/>
          <p:nvPr/>
        </p:nvPicPr>
        <p:blipFill>
          <a:blip r:embed="rId1"/>
          <a:stretch/>
        </p:blipFill>
        <p:spPr>
          <a:xfrm>
            <a:off x="2001960" y="230040"/>
            <a:ext cx="5175000" cy="610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Date Placeholder 3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lide Number Placeholder 4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07F1D-54C3-4507-9672-0330E07480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42800" y="205920"/>
            <a:ext cx="8229600" cy="70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Times New Roman"/>
              </a:rPr>
              <a:t>Cusum Status Chart (Figure 9.3a)</a:t>
            </a:r>
            <a:endParaRPr b="0" lang="en-US" sz="40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89" name="Picture 7" descr=""/>
          <p:cNvPicPr/>
          <p:nvPr/>
        </p:nvPicPr>
        <p:blipFill>
          <a:blip r:embed="rId1"/>
          <a:srcRect l="0" t="0" r="0" b="5844"/>
          <a:stretch/>
        </p:blipFill>
        <p:spPr>
          <a:xfrm>
            <a:off x="952560" y="1162080"/>
            <a:ext cx="7238880" cy="426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Date Placeholder 3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Slide Number Placeholder 4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8D0E6-3472-4912-8EF5-D12AA325E6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Footer Placeholder 5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42800" y="267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imes New Roman"/>
              </a:rPr>
              <a:t>MINITAB Version of Cusum Status Chart</a:t>
            </a:r>
            <a:endParaRPr b="0" lang="en-US" sz="32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94" name="Picture 12" descr=""/>
          <p:cNvPicPr/>
          <p:nvPr/>
        </p:nvPicPr>
        <p:blipFill>
          <a:blip r:embed="rId1"/>
          <a:stretch/>
        </p:blipFill>
        <p:spPr>
          <a:xfrm>
            <a:off x="731880" y="5622840"/>
            <a:ext cx="3092400" cy="452520"/>
          </a:xfrm>
          <a:prstGeom prst="rect">
            <a:avLst/>
          </a:prstGeom>
          <a:ln w="0">
            <a:noFill/>
          </a:ln>
        </p:spPr>
      </p:pic>
      <p:sp>
        <p:nvSpPr>
          <p:cNvPr id="95" name="Text Box 14"/>
          <p:cNvSpPr/>
          <p:nvPr/>
        </p:nvSpPr>
        <p:spPr>
          <a:xfrm>
            <a:off x="3773520" y="5653080"/>
            <a:ext cx="418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initab calculates the lower Cusum this w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15"/>
          <p:cNvSpPr/>
          <p:nvPr/>
        </p:nvSpPr>
        <p:spPr>
          <a:xfrm flipH="1">
            <a:off x="3614760" y="5788080"/>
            <a:ext cx="395280" cy="1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6" descr=""/>
          <p:cNvPicPr/>
          <p:nvPr/>
        </p:nvPicPr>
        <p:blipFill>
          <a:blip r:embed="rId2"/>
          <a:stretch/>
        </p:blipFill>
        <p:spPr>
          <a:xfrm>
            <a:off x="1090440" y="1733400"/>
            <a:ext cx="6963120" cy="33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Date Placeholder 2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AA961-9AA1-4E6F-8458-C53FCDC52D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ooter Placeholder 4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5" descr=""/>
          <p:cNvPicPr/>
          <p:nvPr/>
        </p:nvPicPr>
        <p:blipFill>
          <a:blip r:embed="rId1"/>
          <a:stretch/>
        </p:blipFill>
        <p:spPr>
          <a:xfrm>
            <a:off x="1028880" y="1362240"/>
            <a:ext cx="7086600" cy="41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Date Placeholder 3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lide Number Placeholder 4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953D9-D0EE-464C-92AA-664E30663B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Footer Placeholder 5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42800" y="23616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0c0"/>
                </a:solidFill>
                <a:latin typeface="Times New Roman"/>
              </a:rPr>
              <a:t>Recommendations for Cusum Design</a:t>
            </a:r>
            <a:endParaRPr b="0" lang="en-US" sz="36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106" name="Picture 7" descr=""/>
          <p:cNvPicPr/>
          <p:nvPr/>
        </p:nvPicPr>
        <p:blipFill>
          <a:blip r:embed="rId1"/>
          <a:stretch/>
        </p:blipFill>
        <p:spPr>
          <a:xfrm>
            <a:off x="1087560" y="1246320"/>
            <a:ext cx="7493040" cy="46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Date Placeholder 2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80D47-1DBD-456A-AF60-D4FFBB0A0E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Footer Placeholder 4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5" descr=""/>
          <p:cNvPicPr/>
          <p:nvPr/>
        </p:nvPicPr>
        <p:blipFill>
          <a:blip r:embed="rId1"/>
          <a:stretch/>
        </p:blipFill>
        <p:spPr>
          <a:xfrm>
            <a:off x="409680" y="482760"/>
            <a:ext cx="8262720" cy="24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3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lide Number Placeholder 4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CBC4D-3340-4C1A-9F05-35E4A5D8F5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Footer Placeholder 5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42800" y="205920"/>
            <a:ext cx="8229600" cy="70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Times New Roman"/>
              </a:rPr>
              <a:t>The Standardized Cusum</a:t>
            </a:r>
            <a:endParaRPr b="0" lang="en-US" sz="40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115" name="Picture 7" descr=""/>
          <p:cNvPicPr/>
          <p:nvPr/>
        </p:nvPicPr>
        <p:blipFill>
          <a:blip r:embed="rId1"/>
          <a:stretch/>
        </p:blipFill>
        <p:spPr>
          <a:xfrm>
            <a:off x="790560" y="1255680"/>
            <a:ext cx="7881840" cy="45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Date Placeholder 3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lide Number Placeholder 4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ED049-BB55-4FFE-993F-9B3FA63A81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Footer Placeholder 5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42800" y="144000"/>
            <a:ext cx="8229600" cy="83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Times New Roman"/>
              </a:rPr>
              <a:t>Improving Cusum Performance for Large Shifts: The Combined Shewhart-Cusum Schem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120" name="Picture 8" descr=""/>
          <p:cNvPicPr/>
          <p:nvPr/>
        </p:nvPicPr>
        <p:blipFill>
          <a:blip r:embed="rId1"/>
          <a:stretch/>
        </p:blipFill>
        <p:spPr>
          <a:xfrm>
            <a:off x="938160" y="1504800"/>
            <a:ext cx="7267680" cy="38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Date Placeholder 3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lide Number Placeholder 4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09EBD-513E-479C-ACDE-49194117F3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Footer Placeholder 5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42800" y="23616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0c0"/>
                </a:solidFill>
                <a:latin typeface="Times New Roman"/>
              </a:rPr>
              <a:t>The Fast Initial Response (FIR) Cusum</a:t>
            </a:r>
            <a:endParaRPr b="0" lang="en-US" sz="36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125" name="Picture 11" descr=""/>
          <p:cNvPicPr/>
          <p:nvPr/>
        </p:nvPicPr>
        <p:blipFill>
          <a:blip r:embed="rId1"/>
          <a:stretch/>
        </p:blipFill>
        <p:spPr>
          <a:xfrm>
            <a:off x="4950000" y="4815000"/>
            <a:ext cx="3271680" cy="149220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12"/>
          <p:cNvSpPr/>
          <p:nvPr/>
        </p:nvSpPr>
        <p:spPr>
          <a:xfrm>
            <a:off x="633240" y="5132520"/>
            <a:ext cx="396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3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12, headstart =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2 =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13" descr=""/>
          <p:cNvPicPr/>
          <p:nvPr/>
        </p:nvPicPr>
        <p:blipFill>
          <a:blip r:embed="rId2"/>
          <a:stretch/>
        </p:blipFill>
        <p:spPr>
          <a:xfrm>
            <a:off x="976320" y="870120"/>
            <a:ext cx="7467480" cy="36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Date Placeholder 2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0CB8D-B8F4-4E1B-BC62-A279048F60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Footer Placeholder 4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8"/>
          <p:cNvSpPr/>
          <p:nvPr/>
        </p:nvSpPr>
        <p:spPr>
          <a:xfrm>
            <a:off x="1755720" y="4727520"/>
            <a:ext cx="612468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12 implies that the cusum signals at sample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out the headstart, it would not signal until sample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9" descr=""/>
          <p:cNvPicPr/>
          <p:nvPr/>
        </p:nvPicPr>
        <p:blipFill>
          <a:blip r:embed="rId1"/>
          <a:stretch/>
        </p:blipFill>
        <p:spPr>
          <a:xfrm>
            <a:off x="938160" y="507960"/>
            <a:ext cx="7267680" cy="35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Date Placeholder 2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86FE2-82F3-4440-B0EB-709A1282A0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Footer Placeholder 4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5" descr=""/>
          <p:cNvPicPr/>
          <p:nvPr/>
        </p:nvPicPr>
        <p:blipFill>
          <a:blip r:embed="rId1"/>
          <a:stretch/>
        </p:blipFill>
        <p:spPr>
          <a:xfrm>
            <a:off x="1166760" y="646200"/>
            <a:ext cx="7118280" cy="481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Date Placeholder 3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Slide Number Placeholder 4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4DA78-548D-414D-AFF7-0ACBBB80CE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Footer Placeholder 5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78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Times New Roman"/>
              </a:rPr>
              <a:t>Learning Objectives</a:t>
            </a:r>
            <a:endParaRPr b="0" lang="en-US" sz="44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49" name="Picture 10" descr=""/>
          <p:cNvPicPr/>
          <p:nvPr/>
        </p:nvPicPr>
        <p:blipFill>
          <a:blip r:embed="rId1"/>
          <a:stretch/>
        </p:blipFill>
        <p:spPr>
          <a:xfrm>
            <a:off x="457200" y="1984320"/>
            <a:ext cx="8229600" cy="333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Date Placeholder 3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lide Number Placeholder 4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627CD-26CB-45BE-A715-4F63B56498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Footer Placeholder 5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205920"/>
            <a:ext cx="8229600" cy="70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Times New Roman"/>
              </a:rPr>
              <a:t>More on Cusums</a:t>
            </a:r>
            <a:endParaRPr b="0" lang="en-US" sz="4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177560"/>
            <a:ext cx="822960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sums are often used to determine if a process has shifted off a specified target because it is easy to calculate the required adjust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-sided cusums are often usefu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sums can also be used to monitor vari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sums are available for other sample statistics (ranges, standard deviations, counts, proportions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tional subgroups and cusu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Date Placeholder 1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lide Number Placeholder 2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08A1C-8D50-4100-86C7-4EDBECB65B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Footer Placeholder 3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2" descr=""/>
          <p:cNvPicPr/>
          <p:nvPr/>
        </p:nvPicPr>
        <p:blipFill>
          <a:blip r:embed="rId1"/>
          <a:stretch/>
        </p:blipFill>
        <p:spPr>
          <a:xfrm>
            <a:off x="533520" y="685800"/>
            <a:ext cx="8153280" cy="4076640"/>
          </a:xfrm>
          <a:prstGeom prst="rect">
            <a:avLst/>
          </a:prstGeom>
          <a:ln w="0">
            <a:noFill/>
          </a:ln>
        </p:spPr>
      </p:pic>
      <p:sp>
        <p:nvSpPr>
          <p:cNvPr id="146" name="Rectangle 3"/>
          <p:cNvSpPr/>
          <p:nvPr/>
        </p:nvSpPr>
        <p:spPr>
          <a:xfrm>
            <a:off x="3962520" y="4495680"/>
            <a:ext cx="426708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Date Placeholder 4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lide Number Placeholder 5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6ED09-99EC-40A4-A347-1850BF2E69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Footer Placeholder 6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42800" y="205920"/>
            <a:ext cx="8229600" cy="70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Times New Roman"/>
              </a:rPr>
              <a:t>The Cusum V-Mask</a:t>
            </a:r>
            <a:endParaRPr b="0" lang="en-US" sz="40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151" name="Picture 11" descr=""/>
          <p:cNvPicPr/>
          <p:nvPr/>
        </p:nvPicPr>
        <p:blipFill>
          <a:blip r:embed="rId1"/>
          <a:stretch/>
        </p:blipFill>
        <p:spPr>
          <a:xfrm>
            <a:off x="2743200" y="1076400"/>
            <a:ext cx="3657600" cy="26193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2" descr=""/>
          <p:cNvPicPr/>
          <p:nvPr/>
        </p:nvPicPr>
        <p:blipFill>
          <a:blip r:embed="rId2"/>
          <a:stretch/>
        </p:blipFill>
        <p:spPr>
          <a:xfrm>
            <a:off x="852480" y="4140360"/>
            <a:ext cx="7439040" cy="123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Date Placeholder 4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Slide Number Placeholder 5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4972D-95DC-48DF-925E-638B4240B4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Footer Placeholder 6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8" descr=""/>
          <p:cNvPicPr/>
          <p:nvPr/>
        </p:nvPicPr>
        <p:blipFill>
          <a:blip r:embed="rId1"/>
          <a:stretch/>
        </p:blipFill>
        <p:spPr>
          <a:xfrm>
            <a:off x="434880" y="709560"/>
            <a:ext cx="8507520" cy="241452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0" descr=""/>
          <p:cNvPicPr/>
          <p:nvPr/>
        </p:nvPicPr>
        <p:blipFill>
          <a:blip r:embed="rId2"/>
          <a:stretch/>
        </p:blipFill>
        <p:spPr>
          <a:xfrm>
            <a:off x="1384200" y="3335400"/>
            <a:ext cx="6418440" cy="295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Date Placeholder 1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lide Number Placeholder 2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1A6D5-84EC-45ED-998A-DDDFE280A8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Footer Placeholder 3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2" descr=""/>
          <p:cNvPicPr/>
          <p:nvPr/>
        </p:nvPicPr>
        <p:blipFill>
          <a:blip r:embed="rId1"/>
          <a:stretch/>
        </p:blipFill>
        <p:spPr>
          <a:xfrm>
            <a:off x="857160" y="1143000"/>
            <a:ext cx="7429680" cy="17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Date Placeholder 2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69040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C560E-0FE7-49B0-B422-5948D956CF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Footer Placeholder 4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4" descr=""/>
          <p:cNvPicPr/>
          <p:nvPr/>
        </p:nvPicPr>
        <p:blipFill>
          <a:blip r:embed="rId1"/>
          <a:stretch/>
        </p:blipFill>
        <p:spPr>
          <a:xfrm>
            <a:off x="1617840" y="249120"/>
            <a:ext cx="6021360" cy="60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Date Placeholder 2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D12A4-FD03-4B24-8B85-95B858D504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Footer Placeholder 4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3" descr=""/>
          <p:cNvPicPr/>
          <p:nvPr/>
        </p:nvPicPr>
        <p:blipFill>
          <a:blip r:embed="rId1"/>
          <a:stretch/>
        </p:blipFill>
        <p:spPr>
          <a:xfrm>
            <a:off x="442800" y="603360"/>
            <a:ext cx="8244000" cy="509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Date Placeholder 2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CC511-5FDB-49B8-82B9-1B7022FD02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Footer Placeholder 4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4" descr=""/>
          <p:cNvPicPr/>
          <p:nvPr/>
        </p:nvPicPr>
        <p:blipFill>
          <a:blip r:embed="rId1"/>
          <a:stretch/>
        </p:blipFill>
        <p:spPr>
          <a:xfrm>
            <a:off x="757080" y="836640"/>
            <a:ext cx="7966080" cy="369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Date Placeholder 3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lide Number Placeholder 4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CA4E0-2B55-4378-825F-66004A4C55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Footer Placeholder 5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78000" y="309600"/>
            <a:ext cx="8229600" cy="107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imes New Roman"/>
              </a:rPr>
              <a:t>9.2 The Exponentially Weighted Moving Average Control Chart</a:t>
            </a:r>
            <a:endParaRPr b="0" lang="en-US" sz="3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78" name="Text Box 15"/>
          <p:cNvSpPr/>
          <p:nvPr/>
        </p:nvSpPr>
        <p:spPr>
          <a:xfrm>
            <a:off x="596880" y="1924200"/>
            <a:ext cx="214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EWMA 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16" descr=""/>
          <p:cNvPicPr/>
          <p:nvPr/>
        </p:nvPicPr>
        <p:blipFill>
          <a:blip r:embed="rId1"/>
          <a:stretch/>
        </p:blipFill>
        <p:spPr>
          <a:xfrm>
            <a:off x="933480" y="2390760"/>
            <a:ext cx="7277040" cy="20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Date Placeholder 4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Slide Number Placeholder 5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89DCA-031B-411D-AFD1-6FBC6B4DC7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Footer Placeholder 6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8" descr=""/>
          <p:cNvPicPr/>
          <p:nvPr/>
        </p:nvPicPr>
        <p:blipFill>
          <a:blip r:embed="rId1"/>
          <a:stretch/>
        </p:blipFill>
        <p:spPr>
          <a:xfrm>
            <a:off x="2271600" y="473040"/>
            <a:ext cx="4038840" cy="85428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0" descr=""/>
          <p:cNvPicPr/>
          <p:nvPr/>
        </p:nvPicPr>
        <p:blipFill>
          <a:blip r:embed="rId2"/>
          <a:stretch/>
        </p:blipFill>
        <p:spPr>
          <a:xfrm>
            <a:off x="1671480" y="1627200"/>
            <a:ext cx="5677200" cy="35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Date Placeholder 4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lide Number Placeholder 5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6CE7C-F0A5-4F40-81A7-A39A1867B9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Footer Placeholder 6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42800" y="23616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0c0"/>
                </a:solidFill>
                <a:latin typeface="Times New Roman"/>
              </a:rPr>
              <a:t>8.1 The Cumulative Sum Control Chart</a:t>
            </a:r>
            <a:endParaRPr b="0" lang="en-US" sz="36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54" name="Picture 15" descr=""/>
          <p:cNvPicPr/>
          <p:nvPr/>
        </p:nvPicPr>
        <p:blipFill>
          <a:blip r:embed="rId1"/>
          <a:stretch/>
        </p:blipFill>
        <p:spPr>
          <a:xfrm>
            <a:off x="343080" y="882720"/>
            <a:ext cx="4263840" cy="55371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6" descr=""/>
          <p:cNvPicPr/>
          <p:nvPr/>
        </p:nvPicPr>
        <p:blipFill>
          <a:blip r:embed="rId2"/>
          <a:stretch/>
        </p:blipFill>
        <p:spPr>
          <a:xfrm>
            <a:off x="4606920" y="1692360"/>
            <a:ext cx="4114800" cy="30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Date Placeholder 3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Slide Number Placeholder 4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59C07-3458-4C39-BCCC-B79F08608B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Footer Placeholder 5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10" descr=""/>
          <p:cNvPicPr/>
          <p:nvPr/>
        </p:nvPicPr>
        <p:blipFill>
          <a:blip r:embed="rId1"/>
          <a:stretch/>
        </p:blipFill>
        <p:spPr>
          <a:xfrm>
            <a:off x="2940120" y="179280"/>
            <a:ext cx="3235320" cy="76212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2" descr=""/>
          <p:cNvPicPr/>
          <p:nvPr/>
        </p:nvPicPr>
        <p:blipFill>
          <a:blip r:embed="rId2"/>
          <a:stretch/>
        </p:blipFill>
        <p:spPr>
          <a:xfrm>
            <a:off x="822240" y="4311720"/>
            <a:ext cx="4942080" cy="1619280"/>
          </a:xfrm>
          <a:prstGeom prst="rect">
            <a:avLst/>
          </a:prstGeom>
          <a:ln w="0">
            <a:noFill/>
          </a:ln>
        </p:spPr>
      </p:pic>
      <p:sp>
        <p:nvSpPr>
          <p:cNvPr id="190" name="AutoShape 13"/>
          <p:cNvSpPr/>
          <p:nvPr/>
        </p:nvSpPr>
        <p:spPr>
          <a:xfrm>
            <a:off x="5759280" y="4270320"/>
            <a:ext cx="324000" cy="1703520"/>
          </a:xfrm>
          <a:custGeom>
            <a:avLst/>
            <a:gdLst>
              <a:gd name="textAreaLeft" fmla="*/ 0 w 324000"/>
              <a:gd name="textAreaRight" fmla="*/ 117000 w 324000"/>
              <a:gd name="textAreaTop" fmla="*/ 44280 h 1703520"/>
              <a:gd name="textAreaBottom" fmla="*/ 1659240 h 170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4"/>
          <p:cNvSpPr/>
          <p:nvPr/>
        </p:nvSpPr>
        <p:spPr>
          <a:xfrm>
            <a:off x="6270480" y="4821120"/>
            <a:ext cx="202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ady-state control lim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15" descr=""/>
          <p:cNvPicPr/>
          <p:nvPr/>
        </p:nvPicPr>
        <p:blipFill>
          <a:blip r:embed="rId3"/>
          <a:stretch/>
        </p:blipFill>
        <p:spPr>
          <a:xfrm>
            <a:off x="882720" y="1182600"/>
            <a:ext cx="7410240" cy="25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Date Placeholder 2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6483A-8BAF-4AD2-A10C-333DBD1470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Footer Placeholder 4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8" descr=""/>
          <p:cNvPicPr/>
          <p:nvPr/>
        </p:nvPicPr>
        <p:blipFill>
          <a:blip r:embed="rId1"/>
          <a:stretch/>
        </p:blipFill>
        <p:spPr>
          <a:xfrm>
            <a:off x="582480" y="295200"/>
            <a:ext cx="818532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Date Placeholder 2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617C3-2A5E-450E-8F7C-E7D3011A7B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Footer Placeholder 4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9" descr=""/>
          <p:cNvPicPr/>
          <p:nvPr/>
        </p:nvPicPr>
        <p:blipFill>
          <a:blip r:embed="rId1"/>
          <a:stretch/>
        </p:blipFill>
        <p:spPr>
          <a:xfrm>
            <a:off x="314280" y="1571760"/>
            <a:ext cx="8515440" cy="37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Date Placeholder 2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Slide Number Placeholder 3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81027-1514-4AE7-BCE3-454EE53C70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Footer Placeholder 4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10" descr=""/>
          <p:cNvPicPr/>
          <p:nvPr/>
        </p:nvPicPr>
        <p:blipFill>
          <a:blip r:embed="rId1"/>
          <a:stretch/>
        </p:blipFill>
        <p:spPr>
          <a:xfrm>
            <a:off x="828720" y="501480"/>
            <a:ext cx="7040520" cy="58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Date Placeholder 3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Slide Number Placeholder 4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DCE3F-6E10-43B3-B4B2-BFC4689225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Footer Placeholder 5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42800" y="205920"/>
            <a:ext cx="8229600" cy="70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Times New Roman"/>
              </a:rPr>
              <a:t>Design of the EWMA</a:t>
            </a:r>
            <a:endParaRPr b="0" lang="en-US" sz="40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209" name="Picture 7" descr=""/>
          <p:cNvPicPr/>
          <p:nvPr/>
        </p:nvPicPr>
        <p:blipFill>
          <a:blip r:embed="rId1"/>
          <a:stretch/>
        </p:blipFill>
        <p:spPr>
          <a:xfrm>
            <a:off x="1422360" y="1325520"/>
            <a:ext cx="6562800" cy="43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Date Placeholder 2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5C767-8019-4F0C-B649-9C25E0D61E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Footer Placeholder 4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4" descr=""/>
          <p:cNvPicPr/>
          <p:nvPr/>
        </p:nvPicPr>
        <p:blipFill>
          <a:blip r:embed="rId1"/>
          <a:stretch/>
        </p:blipFill>
        <p:spPr>
          <a:xfrm>
            <a:off x="611280" y="941400"/>
            <a:ext cx="7751520" cy="48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Date Placeholder 2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Slide Number Placeholder 3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83209-7483-4C0F-9D1D-DA92CA0B1F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Footer Placeholder 4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3" descr=""/>
          <p:cNvPicPr/>
          <p:nvPr/>
        </p:nvPicPr>
        <p:blipFill>
          <a:blip r:embed="rId1"/>
          <a:stretch/>
        </p:blipFill>
        <p:spPr>
          <a:xfrm>
            <a:off x="442800" y="773280"/>
            <a:ext cx="8244000" cy="47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Date Placeholder 3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Slide Number Placeholder 4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1FE6C-9B3B-41CF-8F07-00425A9075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Footer Placeholder 5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63600" y="134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imes New Roman"/>
              </a:rPr>
              <a:t>Robustness of EWMA to</a:t>
            </a:r>
            <a:br>
              <a:rPr sz="3200"/>
            </a:br>
            <a:r>
              <a:rPr b="1" lang="en-US" sz="3200" spc="-1" strike="noStrike">
                <a:solidFill>
                  <a:srgbClr val="0070c0"/>
                </a:solidFill>
                <a:latin typeface="Times New Roman"/>
              </a:rPr>
              <a:t>Non-normal Process Data</a:t>
            </a:r>
            <a:endParaRPr b="0" lang="en-US" sz="32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222" name="Picture 7" descr=""/>
          <p:cNvPicPr/>
          <p:nvPr/>
        </p:nvPicPr>
        <p:blipFill>
          <a:blip r:embed="rId1"/>
          <a:stretch/>
        </p:blipFill>
        <p:spPr>
          <a:xfrm>
            <a:off x="1481040" y="1560600"/>
            <a:ext cx="6372360" cy="38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Date Placeholder 2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62A4A-19B9-46E2-9529-5CAC660DB9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Footer Placeholder 4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5" descr=""/>
          <p:cNvPicPr/>
          <p:nvPr/>
        </p:nvPicPr>
        <p:blipFill>
          <a:blip r:embed="rId1"/>
          <a:stretch/>
        </p:blipFill>
        <p:spPr>
          <a:xfrm>
            <a:off x="1341360" y="960480"/>
            <a:ext cx="638352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Date Placeholder 1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Slide Number Placeholder 2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96327-0305-44F9-BE27-AEFE51ED97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Footer Placeholder 3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2" descr=""/>
          <p:cNvPicPr/>
          <p:nvPr/>
        </p:nvPicPr>
        <p:blipFill>
          <a:blip r:embed="rId1"/>
          <a:stretch/>
        </p:blipFill>
        <p:spPr>
          <a:xfrm>
            <a:off x="504720" y="1523880"/>
            <a:ext cx="8134560" cy="16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Date Placeholder 2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C38DF-08BB-474B-9218-25FF8EFAFA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Footer Placeholder 4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8" descr=""/>
          <p:cNvPicPr/>
          <p:nvPr/>
        </p:nvPicPr>
        <p:blipFill>
          <a:blip r:embed="rId1"/>
          <a:stretch/>
        </p:blipFill>
        <p:spPr>
          <a:xfrm>
            <a:off x="149400" y="969840"/>
            <a:ext cx="8735760" cy="416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Date Placeholder 3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Slide Number Placeholder 4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1148C-E34B-4046-8981-FC9C4B1E05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Footer Placeholder 5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42800" y="205920"/>
            <a:ext cx="8229600" cy="70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Times New Roman"/>
              </a:rPr>
              <a:t>Extensions of the EWMA</a:t>
            </a:r>
            <a:endParaRPr b="0" lang="en-US" sz="4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177560"/>
            <a:ext cx="822960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st initial response fea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nitoring vari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nitoring count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EWMA as a predictor of process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Date Placeholder 3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Slide Number Placeholder 4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94603-84BE-4B13-971B-C5EBB2AFAC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Footer Placeholder 5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42800" y="267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imes New Roman"/>
              </a:rPr>
              <a:t>9.3 The Moving Average Control Chart</a:t>
            </a:r>
            <a:endParaRPr b="0" lang="en-US" sz="32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240" name="Picture 10" descr=""/>
          <p:cNvPicPr/>
          <p:nvPr/>
        </p:nvPicPr>
        <p:blipFill>
          <a:blip r:embed="rId1"/>
          <a:stretch/>
        </p:blipFill>
        <p:spPr>
          <a:xfrm>
            <a:off x="766800" y="1192320"/>
            <a:ext cx="7602480" cy="44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Date Placeholder 2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Slide Number Placeholder 3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4D296-05C4-491E-BD77-0DB67C82C8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Footer Placeholder 4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6" descr=""/>
          <p:cNvPicPr/>
          <p:nvPr/>
        </p:nvPicPr>
        <p:blipFill>
          <a:blip r:embed="rId1"/>
          <a:stretch/>
        </p:blipFill>
        <p:spPr>
          <a:xfrm>
            <a:off x="378000" y="353880"/>
            <a:ext cx="8578800" cy="241776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7" descr=""/>
          <p:cNvPicPr/>
          <p:nvPr/>
        </p:nvPicPr>
        <p:blipFill>
          <a:blip r:embed="rId2"/>
          <a:stretch/>
        </p:blipFill>
        <p:spPr>
          <a:xfrm>
            <a:off x="1593720" y="2771640"/>
            <a:ext cx="5307120" cy="347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Date Placeholder 2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F2F0F-06BB-4B27-A563-30089651D4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Footer Placeholder 4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4" descr=""/>
          <p:cNvPicPr/>
          <p:nvPr/>
        </p:nvPicPr>
        <p:blipFill>
          <a:blip r:embed="rId1"/>
          <a:stretch/>
        </p:blipFill>
        <p:spPr>
          <a:xfrm>
            <a:off x="684360" y="612720"/>
            <a:ext cx="8043840" cy="551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Date Placeholder 2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Slide Number Placeholder 3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C95DF-1B92-4238-9D76-DB733CE361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Footer Placeholder 4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5" descr=""/>
          <p:cNvPicPr/>
          <p:nvPr/>
        </p:nvPicPr>
        <p:blipFill>
          <a:blip r:embed="rId1"/>
          <a:stretch/>
        </p:blipFill>
        <p:spPr>
          <a:xfrm>
            <a:off x="282600" y="871560"/>
            <a:ext cx="8643960" cy="29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Date Placeholder 3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Slide Number Placeholder 4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9D630-57F9-467C-BB31-9968193A0A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Footer Placeholder 5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42800" y="178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99"/>
                </a:solidFill>
                <a:latin typeface="Times New Roman"/>
              </a:rPr>
              <a:t>Learning Objectives</a:t>
            </a:r>
            <a:endParaRPr b="0" lang="en-US" sz="44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258" name="Picture 3" descr=""/>
          <p:cNvPicPr/>
          <p:nvPr/>
        </p:nvPicPr>
        <p:blipFill>
          <a:blip r:embed="rId1"/>
          <a:stretch/>
        </p:blipFill>
        <p:spPr>
          <a:xfrm>
            <a:off x="457200" y="1984320"/>
            <a:ext cx="8229600" cy="333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Date Placeholder 4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Slide Number Placeholder 5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7AFD3-7B74-48A2-9A98-B49E973AD7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Footer Placeholder 6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42800" y="205920"/>
            <a:ext cx="8229600" cy="70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Times New Roman"/>
              </a:rPr>
              <a:t>The Cumulative Sum Control Chart</a:t>
            </a:r>
            <a:endParaRPr b="0" lang="en-US" sz="40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64" name="Picture 9" descr=""/>
          <p:cNvPicPr/>
          <p:nvPr/>
        </p:nvPicPr>
        <p:blipFill>
          <a:blip r:embed="rId1"/>
          <a:stretch/>
        </p:blipFill>
        <p:spPr>
          <a:xfrm>
            <a:off x="4648320" y="2579760"/>
            <a:ext cx="4038480" cy="21430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0" descr=""/>
          <p:cNvPicPr/>
          <p:nvPr/>
        </p:nvPicPr>
        <p:blipFill>
          <a:blip r:embed="rId2"/>
          <a:stretch/>
        </p:blipFill>
        <p:spPr>
          <a:xfrm>
            <a:off x="343080" y="1197000"/>
            <a:ext cx="4228920" cy="43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Date Placeholder 4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Slide Number Placeholder 5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198F5-010F-42A8-9DD8-889DE16648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Footer Placeholder 6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205920"/>
            <a:ext cx="8229600" cy="70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Times New Roman"/>
              </a:rPr>
              <a:t>The Tabular Cusum</a:t>
            </a:r>
            <a:endParaRPr b="0" lang="en-US" sz="40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70" name="Picture 10" descr=""/>
          <p:cNvPicPr/>
          <p:nvPr/>
        </p:nvPicPr>
        <p:blipFill>
          <a:blip r:embed="rId1"/>
          <a:stretch/>
        </p:blipFill>
        <p:spPr>
          <a:xfrm>
            <a:off x="1014480" y="1438200"/>
            <a:ext cx="7115040" cy="19908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1" descr=""/>
          <p:cNvPicPr/>
          <p:nvPr/>
        </p:nvPicPr>
        <p:blipFill>
          <a:blip r:embed="rId2"/>
          <a:stretch/>
        </p:blipFill>
        <p:spPr>
          <a:xfrm>
            <a:off x="1446120" y="4280040"/>
            <a:ext cx="6451560" cy="8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Date Placeholder 4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Slide Number Placeholder 5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24002-9250-4CD7-8114-418FE90516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Footer Placeholder 6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7" descr=""/>
          <p:cNvPicPr/>
          <p:nvPr/>
        </p:nvPicPr>
        <p:blipFill>
          <a:blip r:embed="rId1"/>
          <a:stretch/>
        </p:blipFill>
        <p:spPr>
          <a:xfrm>
            <a:off x="176040" y="119160"/>
            <a:ext cx="8339400" cy="23828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9" descr=""/>
          <p:cNvPicPr/>
          <p:nvPr/>
        </p:nvPicPr>
        <p:blipFill>
          <a:blip r:embed="rId2"/>
          <a:srcRect l="0" t="0" r="7461" b="0"/>
          <a:stretch/>
        </p:blipFill>
        <p:spPr>
          <a:xfrm>
            <a:off x="384120" y="2502000"/>
            <a:ext cx="7448760" cy="250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Date Placeholder 1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Slide Number Placeholder 2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35C8B-5F37-43DE-9B32-F4ADFA9F5C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Footer Placeholder 3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10" descr=""/>
          <p:cNvPicPr/>
          <p:nvPr/>
        </p:nvPicPr>
        <p:blipFill>
          <a:blip r:embed="rId1"/>
          <a:stretch/>
        </p:blipFill>
        <p:spPr>
          <a:xfrm>
            <a:off x="331920" y="938160"/>
            <a:ext cx="7980120" cy="175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Date Placeholder 1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Slide Number Placeholder 2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8CE2A-18B6-4E29-B7BC-680C29FE10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Footer Placeholder 3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1"/>
          <a:stretch/>
        </p:blipFill>
        <p:spPr>
          <a:xfrm>
            <a:off x="1898640" y="573120"/>
            <a:ext cx="530532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9T17:36:23Z</dcterms:created>
  <dc:creator>Cheryl Jennings</dc:creator>
  <dc:description/>
  <dc:language>en-US</dc:language>
  <cp:lastModifiedBy>Thomas Kuczek</cp:lastModifiedBy>
  <dcterms:modified xsi:type="dcterms:W3CDTF">2016-03-01T20:09:25Z</dcterms:modified>
  <cp:revision>20</cp:revision>
  <dc:subject/>
  <dc:title>Introduction to Statistical Quality Control, 5th edition</dc:title>
</cp:coreProperties>
</file>