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33.wmf" ContentType="image/x-wmf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38.wmf" ContentType="image/x-wmf"/>
  <Override PartName="/ppt/media/image40.png" ContentType="image/png"/>
  <Override PartName="/ppt/media/image52.png" ContentType="image/png"/>
  <Override PartName="/ppt/media/image39.wmf" ContentType="image/x-wmf"/>
  <Override PartName="/ppt/media/image41.png" ContentType="image/png"/>
  <Override PartName="/ppt/media/image53.png" ContentType="image/png"/>
  <Override PartName="/ppt/media/image6.wmf" ContentType="image/x-wmf"/>
  <Override PartName="/ppt/media/image36.wmf" ContentType="image/x-wmf"/>
  <Override PartName="/ppt/media/image30.png" ContentType="image/png"/>
  <Override PartName="/ppt/media/image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27747-8A34-4FF2-BAB2-DE804701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3B632-24DF-408E-891D-685A790D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F6C9A-D98F-4A36-948E-B559C42C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39AB7-172D-4B6E-BFD5-3A0C595BA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4788E-EB14-439D-8269-4A27E841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99E8F-5739-47B6-8A98-521694FC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E56C6-D098-4D11-A9A7-860E9797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AAC02-4157-48DD-84F5-CB544F24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77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02E8E-10BD-40F8-85DB-6255F1EA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FEE53-AFC0-409E-BA65-231E1F7F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E1888-45B6-4977-9CBC-CD1B01D4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A9ED4-F424-4D07-8F4A-AAC5C2EF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4231-BE7C-4BA9-909C-3F6ECF367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787400" y="6400440"/>
            <a:ext cx="5546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97DD-33E8-4073-A435-53F2D3AE4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2001960" y="230040"/>
            <a:ext cx="517500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E8E8-C7A3-40BC-A17F-893D50661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Cusum Status Chart (Figure 9.3a)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rcRect l="0" t="0" r="0" b="5844"/>
          <a:stretch/>
        </p:blipFill>
        <p:spPr>
          <a:xfrm>
            <a:off x="952560" y="1162080"/>
            <a:ext cx="72388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0322-31ED-484E-A531-81E24C726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MINITAB Version of Cusum Status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1"/>
          <a:stretch/>
        </p:blipFill>
        <p:spPr>
          <a:xfrm>
            <a:off x="731880" y="5622840"/>
            <a:ext cx="3092400" cy="452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4"/>
          <p:cNvSpPr/>
          <p:nvPr/>
        </p:nvSpPr>
        <p:spPr>
          <a:xfrm>
            <a:off x="3773520" y="5653080"/>
            <a:ext cx="41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tab calculates the lower Cusum this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 flipH="1">
            <a:off x="3614760" y="5788080"/>
            <a:ext cx="39528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"/>
          <p:cNvPicPr/>
          <p:nvPr/>
        </p:nvPicPr>
        <p:blipFill>
          <a:blip r:embed="rId2"/>
          <a:stretch/>
        </p:blipFill>
        <p:spPr>
          <a:xfrm>
            <a:off x="1090440" y="1733400"/>
            <a:ext cx="69631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EC98-B20A-486D-A6C5-937E1E831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028880" y="1362240"/>
            <a:ext cx="708660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8AAC-2451-4E63-89DC-1206AE42C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Recommendations for Cusum Desig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087560" y="1246320"/>
            <a:ext cx="74930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BEBD-E462-4256-9E00-AE147322D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09680" y="482760"/>
            <a:ext cx="82627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A07D-6ECF-425C-A22C-5FF3843F0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Standardized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790560" y="1255680"/>
            <a:ext cx="788184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51EB-4DB9-410B-B6B8-6C492BCA1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440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Improving Cusum Performance for Large Shifts: The Combined Shewhart-Cusum Schem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938160" y="1504800"/>
            <a:ext cx="726768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351B-AE2C-4D3B-877F-50EA761DB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The Fast Initial Response (FIR) Cusum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1"/>
          <a:stretch/>
        </p:blipFill>
        <p:spPr>
          <a:xfrm>
            <a:off x="4950000" y="4815000"/>
            <a:ext cx="3271680" cy="14922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633240" y="5132520"/>
            <a:ext cx="39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2, headstart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2"/>
          <a:stretch/>
        </p:blipFill>
        <p:spPr>
          <a:xfrm>
            <a:off x="976320" y="870120"/>
            <a:ext cx="746748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D403-4508-4D16-80DC-DC277E239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755720" y="4727520"/>
            <a:ext cx="6124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2 implies that the cusum signals at s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the headstart, it would not signal until sam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938160" y="507960"/>
            <a:ext cx="726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B201-1F28-4AA9-BDB9-32696C635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1166760" y="646200"/>
            <a:ext cx="71182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3CE0-F5B4-473A-9CCF-7FF41DDD4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BA21-4359-4BF1-B4A4-7B27D922D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More on Cusums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often used to determine if a process has shifted off a specified target because it is easy to calculate the required adju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-sided cusums are often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can also be used to monitor var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available for other sample statistics (ranges, standard deviations, counts, proportion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 subgroups and cus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F87F-5128-449D-B687-13E7C36BD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4076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3962520" y="4495680"/>
            <a:ext cx="4267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7765-D078-4E2E-BD40-3442F74B9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sum V-Mask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1" name="Picture 11" descr=""/>
          <p:cNvPicPr/>
          <p:nvPr/>
        </p:nvPicPr>
        <p:blipFill>
          <a:blip r:embed="rId1"/>
          <a:stretch/>
        </p:blipFill>
        <p:spPr>
          <a:xfrm>
            <a:off x="2743200" y="1076400"/>
            <a:ext cx="3657600" cy="2619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2"/>
          <a:stretch/>
        </p:blipFill>
        <p:spPr>
          <a:xfrm>
            <a:off x="852480" y="4140360"/>
            <a:ext cx="74390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2633-26CD-42A3-A026-E1610D761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434880" y="709560"/>
            <a:ext cx="8507520" cy="2414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2"/>
          <a:stretch/>
        </p:blipFill>
        <p:spPr>
          <a:xfrm>
            <a:off x="1384200" y="3335400"/>
            <a:ext cx="641844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A99B-F26F-4285-99A5-A5D6B2C17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857160" y="1143000"/>
            <a:ext cx="74296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904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C484-6A80-47B8-B12D-5C51CEEDC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617840" y="249120"/>
            <a:ext cx="602136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1A84-B212-4A54-AD3B-A827DEEF5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42800" y="603360"/>
            <a:ext cx="824400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F79C-A28B-452C-9A06-890333CAF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757080" y="836640"/>
            <a:ext cx="796608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00DD-33C9-4BAA-8BF2-D5ABA6F64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78000" y="30960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2 The Exponentially Weighted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596880" y="1924200"/>
            <a:ext cx="214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WMA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6" descr=""/>
          <p:cNvPicPr/>
          <p:nvPr/>
        </p:nvPicPr>
        <p:blipFill>
          <a:blip r:embed="rId1"/>
          <a:stretch/>
        </p:blipFill>
        <p:spPr>
          <a:xfrm>
            <a:off x="933480" y="2390760"/>
            <a:ext cx="72770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8370-7446-46CD-859A-D9930A798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1"/>
          <a:stretch/>
        </p:blipFill>
        <p:spPr>
          <a:xfrm>
            <a:off x="2271600" y="473040"/>
            <a:ext cx="4038840" cy="854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2"/>
          <a:stretch/>
        </p:blipFill>
        <p:spPr>
          <a:xfrm>
            <a:off x="1671480" y="1627200"/>
            <a:ext cx="56772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0C2A-B3A7-47D6-9EE8-77E1C7F33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8.1 The Cumulative Sum Control Chart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343080" y="882720"/>
            <a:ext cx="4263840" cy="553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"/>
          <p:cNvPicPr/>
          <p:nvPr/>
        </p:nvPicPr>
        <p:blipFill>
          <a:blip r:embed="rId2"/>
          <a:stretch/>
        </p:blipFill>
        <p:spPr>
          <a:xfrm>
            <a:off x="4606920" y="169236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4E3E-A383-49E2-B881-1C9463815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tretch/>
        </p:blipFill>
        <p:spPr>
          <a:xfrm>
            <a:off x="2940120" y="179280"/>
            <a:ext cx="3235320" cy="762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"/>
          <p:cNvPicPr/>
          <p:nvPr/>
        </p:nvPicPr>
        <p:blipFill>
          <a:blip r:embed="rId2"/>
          <a:stretch/>
        </p:blipFill>
        <p:spPr>
          <a:xfrm>
            <a:off x="822240" y="4311720"/>
            <a:ext cx="4942080" cy="161928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13"/>
          <p:cNvSpPr/>
          <p:nvPr/>
        </p:nvSpPr>
        <p:spPr>
          <a:xfrm>
            <a:off x="5759280" y="4270320"/>
            <a:ext cx="324000" cy="1703520"/>
          </a:xfrm>
          <a:custGeom>
            <a:avLst/>
            <a:gdLst>
              <a:gd name="textAreaLeft" fmla="*/ 0 w 324000"/>
              <a:gd name="textAreaRight" fmla="*/ 117000 w 324000"/>
              <a:gd name="textAreaTop" fmla="*/ 44280 h 1703520"/>
              <a:gd name="textAreaBottom" fmla="*/ 1659240 h 170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270480" y="48211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-state control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5" descr=""/>
          <p:cNvPicPr/>
          <p:nvPr/>
        </p:nvPicPr>
        <p:blipFill>
          <a:blip r:embed="rId3"/>
          <a:stretch/>
        </p:blipFill>
        <p:spPr>
          <a:xfrm>
            <a:off x="882720" y="1182600"/>
            <a:ext cx="7410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D602-B8AE-41D1-99DC-619B52F48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582480" y="295200"/>
            <a:ext cx="818532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1C29-FFCA-459A-97A7-5031D07F3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1"/>
          <a:stretch/>
        </p:blipFill>
        <p:spPr>
          <a:xfrm>
            <a:off x="314280" y="1571760"/>
            <a:ext cx="85154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14F9-0CD8-49AF-9168-68ECDABB2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828720" y="501480"/>
            <a:ext cx="70405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0611-E55A-495E-890E-99F19166B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Design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1422360" y="1325520"/>
            <a:ext cx="65628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5F83-2EFA-4EE8-9ED2-26640128B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611280" y="941400"/>
            <a:ext cx="77515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7A43-0CB3-48F0-9E76-27F7F654F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42800" y="773280"/>
            <a:ext cx="8244000" cy="47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A01F-76AE-4577-A230-270C69ADF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3600" y="134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Robustness of EWMA to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Non-normal Process Data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22" name="Picture 7" descr=""/>
          <p:cNvPicPr/>
          <p:nvPr/>
        </p:nvPicPr>
        <p:blipFill>
          <a:blip r:embed="rId1"/>
          <a:stretch/>
        </p:blipFill>
        <p:spPr>
          <a:xfrm>
            <a:off x="1481040" y="1560600"/>
            <a:ext cx="63723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091A-828D-410B-BD1A-3F26D864D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1341360" y="960480"/>
            <a:ext cx="6383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606E-7BA6-4E11-B011-C8C66859E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04720" y="1523880"/>
            <a:ext cx="81345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01B0-C819-40AA-8A86-8062BEC51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1"/>
          <a:stretch/>
        </p:blipFill>
        <p:spPr>
          <a:xfrm>
            <a:off x="149400" y="969840"/>
            <a:ext cx="873576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B09A-A9E4-403B-BF39-EC4C4B860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Extensions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initial response fe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var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cou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WMA as a predictor of process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9F36-44A2-45E0-A3BC-D4F3B6CBB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3 The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1"/>
          <a:stretch/>
        </p:blipFill>
        <p:spPr>
          <a:xfrm>
            <a:off x="766800" y="1192320"/>
            <a:ext cx="760248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CB38-2FF8-4259-8BAB-9E2C346D1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378000" y="353880"/>
            <a:ext cx="8578800" cy="2417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1593720" y="2771640"/>
            <a:ext cx="53071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76FD-C9CB-4A98-BE72-3D11E24CD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80438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16C3-8EEC-4B1A-8253-C4F95E464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282600" y="871560"/>
            <a:ext cx="86439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26EB-E85D-49E8-81D3-A5C5567FC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60BD-3E60-4086-AF07-506B11CE7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mulative Sum Control Chart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4648320" y="2579760"/>
            <a:ext cx="4038480" cy="21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343080" y="1197000"/>
            <a:ext cx="42289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64B5-DDA5-49E3-A744-E3FFEB583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Tabular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1"/>
          <a:stretch/>
        </p:blipFill>
        <p:spPr>
          <a:xfrm>
            <a:off x="1014480" y="1438200"/>
            <a:ext cx="7115040" cy="1990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446120" y="4280040"/>
            <a:ext cx="64515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DC8B-B6EE-4BC3-AE29-D0297DF84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176040" y="119160"/>
            <a:ext cx="8339400" cy="2382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2"/>
          <a:srcRect l="0" t="0" r="7461" b="0"/>
          <a:stretch/>
        </p:blipFill>
        <p:spPr>
          <a:xfrm>
            <a:off x="384120" y="2502000"/>
            <a:ext cx="744876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E20A-8EEC-4DBF-82CF-6976BF5E2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1"/>
          <a:stretch/>
        </p:blipFill>
        <p:spPr>
          <a:xfrm>
            <a:off x="331920" y="938160"/>
            <a:ext cx="79801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F159-1131-4EE0-85EC-F068A3D74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98640" y="573120"/>
            <a:ext cx="5305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7:36:23Z</dcterms:created>
  <dc:creator>Cheryl Jennings</dc:creator>
  <dc:description/>
  <dc:language>en-US</dc:language>
  <cp:lastModifiedBy>Thomas Kuczek</cp:lastModifiedBy>
  <dcterms:modified xsi:type="dcterms:W3CDTF">2016-03-01T20:09:25Z</dcterms:modified>
  <cp:revision>20</cp:revision>
  <dc:subject/>
  <dc:title>Introduction to Statistical Quality Control, 5th edition</dc:title>
</cp:coreProperties>
</file>