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33.wmf" ContentType="image/x-wmf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38.wmf" ContentType="image/x-wmf"/>
  <Override PartName="/ppt/media/image40.png" ContentType="image/png"/>
  <Override PartName="/ppt/media/image52.png" ContentType="image/png"/>
  <Override PartName="/ppt/media/image39.wmf" ContentType="image/x-wmf"/>
  <Override PartName="/ppt/media/image41.png" ContentType="image/png"/>
  <Override PartName="/ppt/media/image53.png" ContentType="image/png"/>
  <Override PartName="/ppt/media/image6.wmf" ContentType="image/x-wmf"/>
  <Override PartName="/ppt/media/image36.wmf" ContentType="image/x-wmf"/>
  <Override PartName="/ppt/media/image30.png" ContentType="image/png"/>
  <Override PartName="/ppt/media/image9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5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52FEC-CDD8-46FB-B4CA-195BC45BB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4843D-4F2F-40FD-A72F-FDB56FEC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8265F-5A26-49C4-A653-7BEABCC05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97BAE-6E7E-4CC7-9250-3C50CF64F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B0FF7-F8E6-4B24-85E4-AE44AB89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4E46F-989B-4414-9964-C4E2AC0A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15C7E-45BB-43F1-B2E7-2F428991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64121-E418-436A-A2D8-F7B73129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77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3EB2F-FF70-4908-A105-068CF89B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E18E3-9363-4A16-A78C-4BE57B00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9C0E4-337E-4CD3-9EAC-9F59F01A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B0AC7-2AE1-4A5D-8A40-DF8269C6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0901-C03E-4C75-8C28-767E86C8B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787400" y="6400440"/>
            <a:ext cx="5546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A6CD-3ADC-489C-90C3-9817D5ED2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1"/>
          <a:stretch/>
        </p:blipFill>
        <p:spPr>
          <a:xfrm>
            <a:off x="2001960" y="230040"/>
            <a:ext cx="5175000" cy="61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C47F-3A30-4F3A-B661-9995C4660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Cusum Status Chart (Figure 9.3a)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1"/>
          <a:srcRect l="0" t="0" r="0" b="5844"/>
          <a:stretch/>
        </p:blipFill>
        <p:spPr>
          <a:xfrm>
            <a:off x="952560" y="1162080"/>
            <a:ext cx="723888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8A31-3DB7-4A25-8265-11D44FC89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267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MINITAB Version of Cusum Status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94" name="Picture 12" descr=""/>
          <p:cNvPicPr/>
          <p:nvPr/>
        </p:nvPicPr>
        <p:blipFill>
          <a:blip r:embed="rId1"/>
          <a:stretch/>
        </p:blipFill>
        <p:spPr>
          <a:xfrm>
            <a:off x="731880" y="5622840"/>
            <a:ext cx="3092400" cy="4525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4"/>
          <p:cNvSpPr/>
          <p:nvPr/>
        </p:nvSpPr>
        <p:spPr>
          <a:xfrm>
            <a:off x="3773520" y="5653080"/>
            <a:ext cx="41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tab calculates the lower Cusum this 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"/>
          <p:cNvSpPr/>
          <p:nvPr/>
        </p:nvSpPr>
        <p:spPr>
          <a:xfrm flipH="1">
            <a:off x="3614760" y="5788080"/>
            <a:ext cx="39528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6" descr=""/>
          <p:cNvPicPr/>
          <p:nvPr/>
        </p:nvPicPr>
        <p:blipFill>
          <a:blip r:embed="rId2"/>
          <a:stretch/>
        </p:blipFill>
        <p:spPr>
          <a:xfrm>
            <a:off x="1090440" y="1733400"/>
            <a:ext cx="69631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DBD7-98B8-4445-BABA-DAB7114AF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1028880" y="1362240"/>
            <a:ext cx="7086600" cy="41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F910-2599-47B4-90BA-697FF9C1B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Recommendations for Cusum Design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1087560" y="1246320"/>
            <a:ext cx="749304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4768-26B1-41EC-88F5-CC476C38C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409680" y="482760"/>
            <a:ext cx="82627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C36A-838F-4B0B-A00B-F685175F7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Standardized Cusum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790560" y="1255680"/>
            <a:ext cx="788184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14DD-ADD1-45AA-B53F-D5620D7E5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42800" y="14400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Improving Cusum Performance for Large Shifts: The Combined Shewhart-Cusum Schem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938160" y="1504800"/>
            <a:ext cx="726768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091A-25F7-42CC-8CA3-5CEE4BD8F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The Fast Initial Response (FIR) Cusum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1"/>
          <a:stretch/>
        </p:blipFill>
        <p:spPr>
          <a:xfrm>
            <a:off x="4950000" y="4815000"/>
            <a:ext cx="3271680" cy="14922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2"/>
          <p:cNvSpPr/>
          <p:nvPr/>
        </p:nvSpPr>
        <p:spPr>
          <a:xfrm>
            <a:off x="633240" y="5132520"/>
            <a:ext cx="39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3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2, headstart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3" descr=""/>
          <p:cNvPicPr/>
          <p:nvPr/>
        </p:nvPicPr>
        <p:blipFill>
          <a:blip r:embed="rId2"/>
          <a:stretch/>
        </p:blipFill>
        <p:spPr>
          <a:xfrm>
            <a:off x="976320" y="870120"/>
            <a:ext cx="746748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8E33-C2F1-4152-ABE7-4489D786E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1755720" y="4727520"/>
            <a:ext cx="61246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2 implies that the cusum signals at s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the headstart, it would not signal until sampl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1"/>
          <a:stretch/>
        </p:blipFill>
        <p:spPr>
          <a:xfrm>
            <a:off x="938160" y="507960"/>
            <a:ext cx="726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FD64-963D-4E6A-B6E2-03F6922E2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1166760" y="646200"/>
            <a:ext cx="711828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F570-3061-4289-B07B-08E0E95B6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78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1"/>
          <a:stretch/>
        </p:blipFill>
        <p:spPr>
          <a:xfrm>
            <a:off x="457200" y="1984320"/>
            <a:ext cx="82296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03FC-E4CF-4236-BD6D-15207A174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More on Cusums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are often used to determine if a process has shifted off a specified target because it is easy to calculate the required adjus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-sided cusums are often use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can also be used to monitor var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are available for other sample statistics (ranges, standard deviations, counts, proportion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nal subgroups and cus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CF9A-BA85-4EAC-A73F-12403AE88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153280" cy="40766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3962520" y="4495680"/>
            <a:ext cx="42670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2063-528A-438C-A3B7-E5805CA45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Cusum V-Mask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51" name="Picture 11" descr=""/>
          <p:cNvPicPr/>
          <p:nvPr/>
        </p:nvPicPr>
        <p:blipFill>
          <a:blip r:embed="rId1"/>
          <a:stretch/>
        </p:blipFill>
        <p:spPr>
          <a:xfrm>
            <a:off x="2743200" y="1076400"/>
            <a:ext cx="3657600" cy="2619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"/>
          <p:cNvPicPr/>
          <p:nvPr/>
        </p:nvPicPr>
        <p:blipFill>
          <a:blip r:embed="rId2"/>
          <a:stretch/>
        </p:blipFill>
        <p:spPr>
          <a:xfrm>
            <a:off x="852480" y="4140360"/>
            <a:ext cx="743904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46C8-3A8C-471E-857F-1246AE894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"/>
          <p:cNvPicPr/>
          <p:nvPr/>
        </p:nvPicPr>
        <p:blipFill>
          <a:blip r:embed="rId1"/>
          <a:stretch/>
        </p:blipFill>
        <p:spPr>
          <a:xfrm>
            <a:off x="434880" y="709560"/>
            <a:ext cx="8507520" cy="2414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/>
          <p:cNvPicPr/>
          <p:nvPr/>
        </p:nvPicPr>
        <p:blipFill>
          <a:blip r:embed="rId2"/>
          <a:stretch/>
        </p:blipFill>
        <p:spPr>
          <a:xfrm>
            <a:off x="1384200" y="3335400"/>
            <a:ext cx="641844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18CD-DC9C-47C2-9F09-22DAA1C31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857160" y="1143000"/>
            <a:ext cx="74296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904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7D95-036D-4509-A751-CBBF60126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1617840" y="249120"/>
            <a:ext cx="602136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21BD-BC99-489D-A2B6-8942A3153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442800" y="603360"/>
            <a:ext cx="824400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DB16-E9DA-4BD7-8C76-2CA297BF8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757080" y="836640"/>
            <a:ext cx="796608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141C-297F-48DA-84C7-37D42A4DF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78000" y="309600"/>
            <a:ext cx="82296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9.2 The Exponentially Weighted Moving Average Control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596880" y="1924200"/>
            <a:ext cx="214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EWMA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6" descr=""/>
          <p:cNvPicPr/>
          <p:nvPr/>
        </p:nvPicPr>
        <p:blipFill>
          <a:blip r:embed="rId1"/>
          <a:stretch/>
        </p:blipFill>
        <p:spPr>
          <a:xfrm>
            <a:off x="933480" y="2390760"/>
            <a:ext cx="72770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F621-C79E-4AE5-9C1F-F8370FC41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"/>
          <p:cNvPicPr/>
          <p:nvPr/>
        </p:nvPicPr>
        <p:blipFill>
          <a:blip r:embed="rId1"/>
          <a:stretch/>
        </p:blipFill>
        <p:spPr>
          <a:xfrm>
            <a:off x="2271600" y="473040"/>
            <a:ext cx="4038840" cy="854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"/>
          <p:cNvPicPr/>
          <p:nvPr/>
        </p:nvPicPr>
        <p:blipFill>
          <a:blip r:embed="rId2"/>
          <a:stretch/>
        </p:blipFill>
        <p:spPr>
          <a:xfrm>
            <a:off x="1671480" y="1627200"/>
            <a:ext cx="56772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1E12-8180-4027-BAFC-4AED92645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8.1 The Cumulative Sum Control Chart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54" name="Picture 15" descr=""/>
          <p:cNvPicPr/>
          <p:nvPr/>
        </p:nvPicPr>
        <p:blipFill>
          <a:blip r:embed="rId1"/>
          <a:stretch/>
        </p:blipFill>
        <p:spPr>
          <a:xfrm>
            <a:off x="343080" y="882720"/>
            <a:ext cx="4263840" cy="5537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"/>
          <p:cNvPicPr/>
          <p:nvPr/>
        </p:nvPicPr>
        <p:blipFill>
          <a:blip r:embed="rId2"/>
          <a:stretch/>
        </p:blipFill>
        <p:spPr>
          <a:xfrm>
            <a:off x="4606920" y="169236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195A-B236-4523-A763-BB05793C2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1"/>
          <a:stretch/>
        </p:blipFill>
        <p:spPr>
          <a:xfrm>
            <a:off x="2940120" y="179280"/>
            <a:ext cx="3235320" cy="762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"/>
          <p:cNvPicPr/>
          <p:nvPr/>
        </p:nvPicPr>
        <p:blipFill>
          <a:blip r:embed="rId2"/>
          <a:stretch/>
        </p:blipFill>
        <p:spPr>
          <a:xfrm>
            <a:off x="822240" y="4311720"/>
            <a:ext cx="4942080" cy="161928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13"/>
          <p:cNvSpPr/>
          <p:nvPr/>
        </p:nvSpPr>
        <p:spPr>
          <a:xfrm>
            <a:off x="5759280" y="4270320"/>
            <a:ext cx="324000" cy="1703520"/>
          </a:xfrm>
          <a:custGeom>
            <a:avLst/>
            <a:gdLst>
              <a:gd name="textAreaLeft" fmla="*/ 0 w 324000"/>
              <a:gd name="textAreaRight" fmla="*/ 117000 w 324000"/>
              <a:gd name="textAreaTop" fmla="*/ 44280 h 1703520"/>
              <a:gd name="textAreaBottom" fmla="*/ 1659240 h 170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6270480" y="48211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dy-state control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5" descr=""/>
          <p:cNvPicPr/>
          <p:nvPr/>
        </p:nvPicPr>
        <p:blipFill>
          <a:blip r:embed="rId3"/>
          <a:stretch/>
        </p:blipFill>
        <p:spPr>
          <a:xfrm>
            <a:off x="882720" y="1182600"/>
            <a:ext cx="74102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6CB7-37BF-478A-88CC-793839287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1"/>
          <a:stretch/>
        </p:blipFill>
        <p:spPr>
          <a:xfrm>
            <a:off x="582480" y="295200"/>
            <a:ext cx="818532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59BF-AC70-419B-91DA-CBC9F92EB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9" descr=""/>
          <p:cNvPicPr/>
          <p:nvPr/>
        </p:nvPicPr>
        <p:blipFill>
          <a:blip r:embed="rId1"/>
          <a:stretch/>
        </p:blipFill>
        <p:spPr>
          <a:xfrm>
            <a:off x="314280" y="1571760"/>
            <a:ext cx="85154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82CB-D5FF-4903-9443-9FB4F271B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0" descr=""/>
          <p:cNvPicPr/>
          <p:nvPr/>
        </p:nvPicPr>
        <p:blipFill>
          <a:blip r:embed="rId1"/>
          <a:stretch/>
        </p:blipFill>
        <p:spPr>
          <a:xfrm>
            <a:off x="828720" y="501480"/>
            <a:ext cx="704052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7BB9-168F-4443-B45F-CC477AF6F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Design of the EWMA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09" name="Picture 7" descr=""/>
          <p:cNvPicPr/>
          <p:nvPr/>
        </p:nvPicPr>
        <p:blipFill>
          <a:blip r:embed="rId1"/>
          <a:stretch/>
        </p:blipFill>
        <p:spPr>
          <a:xfrm>
            <a:off x="1422360" y="1325520"/>
            <a:ext cx="656280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739D-215A-47E4-88B2-4C0AF67B5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611280" y="941400"/>
            <a:ext cx="77515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8D91-1BF0-45D3-8001-D4B06E3AA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442800" y="773280"/>
            <a:ext cx="8244000" cy="47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4A79-63F9-43D7-A283-1D7CCCCF5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63600" y="134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Robustness of EWMA to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Non-normal Process Data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22" name="Picture 7" descr=""/>
          <p:cNvPicPr/>
          <p:nvPr/>
        </p:nvPicPr>
        <p:blipFill>
          <a:blip r:embed="rId1"/>
          <a:stretch/>
        </p:blipFill>
        <p:spPr>
          <a:xfrm>
            <a:off x="1481040" y="1560600"/>
            <a:ext cx="637236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D4A4-886A-4CF3-9453-40496B585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1341360" y="960480"/>
            <a:ext cx="6383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07C1-9F90-4349-BD2C-296241728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504720" y="1523880"/>
            <a:ext cx="813456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8E10-9257-4A5D-9B40-EDE7320A1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1"/>
          <a:stretch/>
        </p:blipFill>
        <p:spPr>
          <a:xfrm>
            <a:off x="149400" y="969840"/>
            <a:ext cx="873576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334F-60B7-4617-9304-49EDC01CA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Extensions of the EWMA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initial response fe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var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cou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WMA as a predictor of process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EDA9-2102-4481-9F2A-101752280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267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9.3 The Moving Average Control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1"/>
          <a:stretch/>
        </p:blipFill>
        <p:spPr>
          <a:xfrm>
            <a:off x="766800" y="1192320"/>
            <a:ext cx="760248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1E7C-CFBA-4662-9DEB-6093DF6D1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/>
          <p:cNvPicPr/>
          <p:nvPr/>
        </p:nvPicPr>
        <p:blipFill>
          <a:blip r:embed="rId1"/>
          <a:stretch/>
        </p:blipFill>
        <p:spPr>
          <a:xfrm>
            <a:off x="378000" y="353880"/>
            <a:ext cx="8578800" cy="2417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2"/>
          <a:stretch/>
        </p:blipFill>
        <p:spPr>
          <a:xfrm>
            <a:off x="1593720" y="2771640"/>
            <a:ext cx="530712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1F1C-D3C3-4ADA-93B1-6C712050B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684360" y="612720"/>
            <a:ext cx="804384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BB7D-F98C-4A1D-9208-04B084C4C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282600" y="871560"/>
            <a:ext cx="864396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FF6D-9DD8-4178-8E97-434934CA0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78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457200" y="1984320"/>
            <a:ext cx="82296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AE9A-2E9A-41DA-9F5C-0E51E3F77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Cumulative Sum Control Chart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1"/>
          <a:stretch/>
        </p:blipFill>
        <p:spPr>
          <a:xfrm>
            <a:off x="4648320" y="2579760"/>
            <a:ext cx="4038480" cy="214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2"/>
          <a:stretch/>
        </p:blipFill>
        <p:spPr>
          <a:xfrm>
            <a:off x="343080" y="1197000"/>
            <a:ext cx="422892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66F2-B7BD-4A1B-8B53-A36D7F1DD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Tabular Cusum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1"/>
          <a:stretch/>
        </p:blipFill>
        <p:spPr>
          <a:xfrm>
            <a:off x="1014480" y="1438200"/>
            <a:ext cx="7115040" cy="1990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2"/>
          <a:stretch/>
        </p:blipFill>
        <p:spPr>
          <a:xfrm>
            <a:off x="1446120" y="4280040"/>
            <a:ext cx="64515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7807-7676-4E2B-BACD-48A8E7D82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176040" y="119160"/>
            <a:ext cx="8339400" cy="2382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2"/>
          <a:srcRect l="0" t="0" r="7461" b="0"/>
          <a:stretch/>
        </p:blipFill>
        <p:spPr>
          <a:xfrm>
            <a:off x="384120" y="2502000"/>
            <a:ext cx="744876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FB06-E375-4086-9DAD-C925A2EE7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"/>
          <p:cNvPicPr/>
          <p:nvPr/>
        </p:nvPicPr>
        <p:blipFill>
          <a:blip r:embed="rId1"/>
          <a:stretch/>
        </p:blipFill>
        <p:spPr>
          <a:xfrm>
            <a:off x="331920" y="938160"/>
            <a:ext cx="798012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A0FF-3096-4339-9740-FDC52B207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898640" y="573120"/>
            <a:ext cx="5305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17:36:23Z</dcterms:created>
  <dc:creator>Cheryl Jennings</dc:creator>
  <dc:description/>
  <dc:language>en-US</dc:language>
  <cp:lastModifiedBy>Thomas Kuczek</cp:lastModifiedBy>
  <dcterms:modified xsi:type="dcterms:W3CDTF">2016-03-01T20:09:25Z</dcterms:modified>
  <cp:revision>20</cp:revision>
  <dc:subject/>
  <dc:title>Introduction to Statistical Quality Control, 5th edition</dc:title>
</cp:coreProperties>
</file>